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65D-B046-4FC5-A1FC-E97B94B2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055-AE49-4652-A544-72FD513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396-7E73-41CC-9657-45EA0EC2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D7D-12F1-4088-A6EF-6296A1C0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9B7F-9F49-4FDA-BAAD-FE7B0CEC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BC8-ECEE-45EA-9A5A-B0C502B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3972-431F-4ED8-82B1-0144A4A1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A12F-2FBB-4D13-A5EE-F950A06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63CE-EE33-4F3E-9101-3B8BF71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900-17B5-40E2-B7D3-42ADDE09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5E3-79B7-4658-964B-82326F6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653-4812-49C2-B11B-4F6CCF72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ACEF-CC92-477B-AA49-FA1CAC9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1E3-84B1-4ECD-81DF-73A4297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E8AF-E530-474D-B997-836ED80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6AA-75A2-432B-942D-FED7725D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138-66C2-46EF-8313-FC640A06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AB83-3589-472D-B153-9AF753C4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B96D-136C-4D7B-9494-AFD470C8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8637-8A4B-49CD-A305-78D0C5E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7875-17B1-479F-9C2A-7B5E66C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B05F-92E6-4E10-BBFD-07557F69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C88-9ED5-4D27-A14F-10B8BF6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9A0C-8648-4BBD-A8B3-F758ACE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A3C0-5C35-4FE3-BD7E-C0A325F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9B90-B3EC-467A-B8E1-51464CE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B961-8D05-4BDF-BC08-13E701B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B31D-D6B1-461D-B2D7-9EB657C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BC3C-65D8-48A9-8E59-765AD7B4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ECB7-E81E-4E8C-97DA-A0A9FAFF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3100-432E-44FE-89BA-EF6668DF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7BEE-CD7D-42B8-9C17-1086DFC5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2E99-BD2B-4D73-86B8-FD3D874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DB8-9FCB-47EC-8B9F-2A39FC5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C95F-A417-40E4-99A7-530C44B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453E2-9EC7-48E3-B1FE-F4ED9BD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F36E-D53F-496C-882D-8BC7502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C6B5-9264-4B71-9DB8-F9813A4E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8D05-B190-4F55-B6A3-0F95A59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78D3-5FF4-49F8-BBD8-B6DD0D3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3266-6CEC-4ABD-832A-F428679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6674-CF56-4034-9694-F85666D9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EDE3-E2B1-4DEE-BD53-DF63ABDE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CF4-F546-4E8C-922D-68FABDF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E1E-9F9A-41CA-8CCD-2CECBD0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895-F66A-455F-BEDC-3059779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E29-1EB1-492B-B981-D843CC4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A20-5937-4C15-B9B8-6B6FC45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1DFC-6DEC-453A-AEDB-387DAFD17B0B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81D-521A-4C15-BEC3-4835B96D29BC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EB91-1292-4407-A24E-49B9E232F2F3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704-461C-4285-B45D-04C7B19C352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4617b"/>
                </a:solidFill>
                <a:latin typeface="Calibri"/>
              </a:rPr>
              <a:t>Progra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00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ivítání, úvod do problematiky a cíl informačního dne  - Jan Marek, CSc. 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ředitel odboru mezinárodní spolupráce ve výzkumu a vývoj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2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práce tematických skupin České Roadmap – moderuje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Socioekonomické a humanitní vědy – Jindřich Krejč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Vědy o životním prostředí – Michal V.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0:15 – 10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Fyzika a materiálové inženýrství, vesmír – Petr Křen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nergetika – Ivan Štek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1:45 – 12: 1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2:15 – 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Oběd formou bufet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okračování – tematické skupin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Biomedicína – Peter Šebo a Radislav Sedláč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30 – 13: 4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horizontálních témat – moderuje Jan Hrušá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 – infrastruktury – Jan Gruntorá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4:30 – 15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valuace </a:t>
            </a:r>
            <a:r>
              <a:rPr b="1" lang="en-US" sz="1400" spc="-1" strike="noStrike">
                <a:solidFill>
                  <a:srgbClr val="55a839"/>
                </a:solidFill>
                <a:latin typeface="Constantia"/>
              </a:rPr>
              <a:t>start- up společností </a:t>
            </a: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– Viliam Grácz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5:30 – 16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ečná d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Shrnutí a návrh dalších kroků –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1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 – Jan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Definice velké infrastruktury podle zákona 130/2002 Sb. v posledním zně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§2 Vymezení pojm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(2) pro účely poskytování podpory j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) velkou infrastrukturou pro výzkum, vývoj a inovace jedinečné výzkumné zařízení, včetně jeho pořízení, souvisejících investic a zajištění jeho činnosti, které je nezbytné pro ucelenou výzkumnou a vývojovou činnost s vysokou finanční a technologickou náročností a které je schvalováno vládou a zřizováno jednou výzkumnou organizací pro využití též dalšími výzkumnými organizacem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Calibri"/>
              </a:rPr>
              <a:t>ESFRI – 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uropean Strategic Forum for R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oslání ESFR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trategický přístup k evropským výzkumným infrastrukturám; a)směřování (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Roadmap 2006, 2008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); b)manažerské problémy; právní otázky; ad hoc otázky (regionální rozmě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Ustanoveno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během působení komisaře Busquina v únoru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– 15 států – tvořené 1 zástupcem administrativy a 1 odborníkem z každého ČS;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lénum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ematick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pracovní skupi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ředsedov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voleni na 2 rok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. Hans Cha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. John Wood – ustanovil výkonný výb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3. Carlo Rizzu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eští delegát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Jan Marek a Karel Jungwirth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Naďa Witzanyová a Jan Hrušá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Konferenc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2000 </a:t>
            </a: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Strassbourg;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2003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riest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; 2005 ECR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ttingham;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007 Hamburk; 2008 ECRI Versailles; 2009 RIC Prah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26:31Z</dcterms:created>
  <dc:creator>witzanyovan</dc:creator>
  <dc:description/>
  <dc:language>en-US</dc:language>
  <cp:lastModifiedBy>witzanyovan</cp:lastModifiedBy>
  <dcterms:modified xsi:type="dcterms:W3CDTF">2009-09-02T11:37:16Z</dcterms:modified>
  <cp:revision>8</cp:revision>
  <dc:subject/>
  <dc:title>Snímek 1</dc:title>
</cp:coreProperties>
</file>